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9CB1-8D11-46E3-BA85-22BBB8C7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AE39-9405-421C-960E-9A65488B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D15-B9D8-4428-93B9-C3603611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76E-1A42-4CC8-BC7B-09283C2FA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105-DB08-4A7E-A338-F86C31E6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9EA-E5C2-4801-9347-BF0582A2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F88-ECC1-4717-A763-B0A85281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67E-62EA-4A5A-ACB7-04BE2455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889-0ED9-445E-B1D4-0FCC425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6F1-86E1-43C2-A3F3-25A27011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8CE-7AE9-45F3-AEC4-09D5DD35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B9D-D006-4D2C-A8B4-0A669BFA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0CE3-2980-4A8B-A9E5-621993F62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2362320" y="2666880"/>
            <a:ext cx="4419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1752480" y="121932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ch Deutch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2362320" y="26668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fa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rcRect l="18686" t="44446" r="36669" b="42224"/>
          <a:stretch/>
        </p:blipFill>
        <p:spPr>
          <a:xfrm>
            <a:off x="1219320" y="1828800"/>
            <a:ext cx="5659200" cy="1371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9320" y="3580920"/>
            <a:ext cx="5943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in Flug nach Deutschland kost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7.22 Eu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rcRect l="16669" t="62295" r="41664" b="29289"/>
          <a:stretch/>
        </p:blipFill>
        <p:spPr>
          <a:xfrm>
            <a:off x="1905120" y="228600"/>
            <a:ext cx="472428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1523880" y="243828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h gehe ins berlin mit meine welcome card. Das kostest 17,90 Eu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"/>
          <p:cNvPicPr/>
          <p:nvPr/>
        </p:nvPicPr>
        <p:blipFill>
          <a:blip r:embed="rId1"/>
          <a:srcRect l="30477" t="66669" r="11429" b="17391"/>
          <a:stretch/>
        </p:blipFill>
        <p:spPr>
          <a:xfrm>
            <a:off x="1741320" y="1600200"/>
            <a:ext cx="5659560" cy="1295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2362320" y="358128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 hotel bei die Grand Hotel Esplanade Berlin kostet mich 80.92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meinem Hotel gibt es eine gute Hallenbad. Also mein Hotel hat ein gutes Restaurant die Eck Restaurant. Mein Hotel hat auch einen schönen Sp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erlin Ich besuchte viele Orte.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besuchte die Berliner Mauer. Und ich besuchten das Rathaus. Auch besuchte ich am Checkpoint Charlie. Und dann besuchte ich das Brandenburger Tor. Und schließlich besuchte ich den Reich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ine Reise nach Berlin kostete mich 1,669.53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17:30Z</dcterms:created>
  <dc:creator>CUSD220</dc:creator>
  <dc:description/>
  <dc:language>en-US</dc:language>
  <cp:lastModifiedBy>Tina Adams</cp:lastModifiedBy>
  <dcterms:modified xsi:type="dcterms:W3CDTF">2012-01-10T01:11:38Z</dcterms:modified>
  <cp:revision>11</cp:revision>
  <dc:subject/>
  <dc:title>Slide 1</dc:title>
</cp:coreProperties>
</file>